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9AF-9C64-41A0-8710-F2833CC8E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623F-7AC4-4C08-BB3F-7BAD8614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AC5-934D-4A0B-AD35-864C8B4F3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D87A-1F5D-480D-84AA-A5D85A010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2F05-0CE9-4A7A-8A3C-A8C113BD2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381C6-9E1A-46EB-86CB-3A7AEA8F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10098-1463-4A8A-953A-78C51E2B1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91BC-38DF-4F69-996D-3F7C805A9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4A23-0449-48A8-A4D2-A5CFF843D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A9F3D-A46B-498D-943F-896888DA6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4223A-134C-4BA5-8801-E689539B8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E8D4-2FC6-4D1D-BA0E-551CEE2E6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C56F7-AAD3-4CFB-A3CA-FC095E7F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0EBD-8CE8-4F6F-BC07-2F7F79BC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0FFC2-A06B-4140-92B0-6CA0FB374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8699E-4CB9-4AE5-A4C4-0AA2CB79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3C30C-9408-4FF2-A706-EAC1D6A65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F273569-444A-425F-9DB3-03568ADF6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A0D76B-0C4C-469D-9924-F613BCB34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9FEF9E-B83A-4605-82D7-13A78FE92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EF4CEC-0666-4B66-B450-31C2C1C5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CEBFF-7397-4A81-84E6-D2A8324F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B623-580F-4B6A-8752-A31618078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16B198-22E4-4326-8C21-DEAEF593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9ED55-3B13-422D-B372-75305FD24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3E220-1AC9-4CC5-8CC0-64EC86D0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0DE61F-A7B9-456F-B998-ECB6CD90F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8A17E-36F1-410D-898C-50848C045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5C6975-B889-44FD-8874-CE1BEE96D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CF6A5C-4C13-4C3F-B9E1-BC5468549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BA99B-E91F-4853-9D6F-66E65D2CC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88902-A17A-48E2-88D1-5565FCD69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DE26C-4A2E-420B-9E9A-C8E63B9E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534-E056-4DD1-BCA2-0F15FC578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362A50-EF75-4A04-B095-8DFDE4A51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1DB73-17A2-49E8-92BB-DC8D5361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F8BA0-1F0E-45CA-BC86-37073F7A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76BB3-94FE-4B23-BE1F-09CBE5FD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7D55C-8BAC-4F41-A577-48C1643D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FD87E5-D464-4712-A7E3-87E51F0B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FDC7B-E45A-4778-9A8D-479C9E6FE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B6DE3-BF96-49F2-B8FA-D744C63D4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FF01A9-AC78-4730-9FA0-550276920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3A88-392A-477C-A742-59514F04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D0F0-4BA9-4C4C-98E1-CE0FAFD2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EE25-DE1C-42DF-B5E3-E8B74E9C2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CFB8-E68D-4155-98CA-EBADCC7F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79ED-F653-47F1-986B-F8CB21DD6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30A43F-720C-4A37-9201-47FA90F04D0C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3D6E25-E9B3-45F9-822A-A1EF03C9DBEA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2104FD-34D1-4EC3-85D8-2D8F6601E54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E48271-CDA8-44DE-BAB8-CCF384127189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4c600"/>
                </a:solidFill>
                <a:latin typeface="Century Gothic"/>
              </a:rPr>
              <a:t>Intelligences, Personality Types, and Learning Styles</a:t>
            </a:r>
            <a:endParaRPr b="0" lang="en-US" sz="32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Chapter 2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Visual-Spatial Intellig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icture Smar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elies on sense of sight and ability to visualize an objec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You can create pictures in your hea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Linguistic Intellig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ord Smar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elates to words and languag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ritten and spoken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You are a highly skilled writer, have a large vocabulary, and speak many languag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768240"/>
            <a:ext cx="7024680" cy="1401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Logical-Mathematical Intellig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ogic Smar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bility to solve logical problems and equations mentall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You are good with numbers and doing calculation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ctivit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ork through Activities #1-7 on p27-30 in your textbook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rite down the activity title (i.e.: Music Smart) and the statements that apply to you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mplete Activity #8 by writing a paragraph that answers the questions (5 sentences)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y Intelligences - Result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usic Smart </a:t>
            </a:r>
            <a:r>
              <a:rPr b="0" lang="en-U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6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ody Smart </a:t>
            </a:r>
            <a:r>
              <a:rPr b="0" lang="en-U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2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eople Smart </a:t>
            </a:r>
            <a:r>
              <a:rPr b="0" lang="en-U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6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lf Smart </a:t>
            </a:r>
            <a:r>
              <a:rPr b="0" lang="en-U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icture Smart </a:t>
            </a:r>
            <a:r>
              <a:rPr b="0" lang="en-U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ord Smart </a:t>
            </a:r>
            <a:r>
              <a:rPr b="0" lang="en-U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3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ogic Smart </a:t>
            </a:r>
            <a:r>
              <a:rPr b="0" lang="en-U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6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y Intelligenc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Music Smar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 have a pleasant singing voic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 can tell when a musical note is off-key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 frequently listen to music on the radio, cassettes, or CDs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 play a musical instrument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 can easily keep time to a piece of music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I know the tunes to many songs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y Intelligenc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68000" y="2324160"/>
            <a:ext cx="81709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Body Smar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like working with my hands by doing activities such as sewing, carving, model building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frequently use hand gestures or other forms of bodily language when I am talking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eople Smar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My friends come to me for advice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prefer team sports instead of solo sports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When I have a problem, I usually talk to another person about it instead of working it out on my own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have three close friends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would rather play games like Monopoly with other people instead of watching television or playing computer games by myself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would rather spend time with my friends than stay at home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y Intelligenc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501480" y="2323800"/>
            <a:ext cx="810432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Self Smar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 like to spend time alone thinking and reflecting about my life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 like to take quizzes that enable me to learn more about myself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 keep a personal diary or journal to record my thoughts about what happens to me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icture Smart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 often see clear images when I close my eyes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 enjoy doing jigsaw puzzles, 3D puzzles, and mazes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 can look at an object one way and imagine what it would look like from a different angle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y Intelligence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17680" y="2323800"/>
            <a:ext cx="81216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Word Smar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Books are very important to me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enjoy playing games that involve words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Others sometimes stop and ask me to explain the meaning of a word I am using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Logic Smar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can easily compute numbers in my head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Math and science are among my favourite subjects in school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enjoy playing games or solving brain teasers that require logical thinking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am good with computers and enjoy working on them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can easily see numerical patterns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I like to put things in order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What It’s All Abou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68440" y="2323800"/>
            <a:ext cx="7953120" cy="39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ifferent intelligences and which ones apply to you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hat an emotional quotient is and how it contributes to your life skill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ersonality types, analyzing yours and others’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Different learning styles, which one you have, and how it can improve your learn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eft-brained VS right-brained and how that affects your thinking and action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hapter 2 = Psycholog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8000" y="2323800"/>
            <a:ext cx="8204040" cy="40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hapter 2 is about more scientific ways to learn more about yoursel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sychology = study of human natur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ill look at some theories that, based on years of research, tell us how and why we behave the way that we do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**when you know yourself, you can make choices, decisions and plans that are right for you**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asically what this careers course is all about!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Q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What’s an IQ test?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ocuses on ability in literacy (language) and numeracy (numbers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igher the number, the greater the </a:t>
            </a:r>
            <a:r>
              <a:rPr b="0" i="1" lang="en-US" sz="2200" spc="-1" strike="noStrike">
                <a:solidFill>
                  <a:srgbClr val="3e3d2d"/>
                </a:solidFill>
                <a:latin typeface="Century Gothic"/>
              </a:rPr>
              <a:t>potential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intelligence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Average = 100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Q = intelligence quotient, a number that decides your intelligence based on a standard tes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Dr. Howard Gardn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ought IQ test was too limiting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ought humans are intelligent in many different area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dentified seven kinds of intelligence, </a:t>
            </a:r>
            <a:r>
              <a:rPr b="1" lang="en-US" sz="2400" spc="-1" strike="noStrike">
                <a:solidFill>
                  <a:srgbClr val="3e3d2d"/>
                </a:solidFill>
                <a:latin typeface="Century Gothic"/>
              </a:rPr>
              <a:t>MULTIPLE INTELLIGENCE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nk about the ways that you and others are talented – most likely their “intelligence” includes their talen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Musical Intellig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ased on how musical you ar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You respond to rhythm and be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You may perform vocally/instrumentall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You may compose music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852480"/>
            <a:ext cx="7024680" cy="1317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Bodily/Kinesthetic Intellig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ody Smar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Relates to physical movemen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ontrol of body movements/balance/agility/grace/etc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tERpersonal Intellig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eople Smar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erson-to-person relationship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bility to interact with others, understand them, interpret their behaviou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Notice people’s moods, feelings, thoughts without them telling you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ntRApersonal Intelligenc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lf Smar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How well you understand yourself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Ability to have insight into who you are, what you feel, why you are the way you are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an lead to high self-esteem and strength of character </a:t>
            </a:r>
            <a:r>
              <a:rPr b="0" lang="en-U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solve personal problem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9T23:24:59Z</dcterms:created>
  <dc:creator>Sarah</dc:creator>
  <dc:description/>
  <dc:language>en-US</dc:language>
  <cp:lastModifiedBy>Sarah</cp:lastModifiedBy>
  <dcterms:modified xsi:type="dcterms:W3CDTF">2012-04-30T00:14:42Z</dcterms:modified>
  <cp:revision>7</cp:revision>
  <dc:subject/>
  <dc:title>Intelligences, Personality Types, and Learning Styles</dc:title>
</cp:coreProperties>
</file>